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2BBB-70FD-4C55-AA45-124A1B76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9BA-22AD-4511-AFD0-4B049839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6277-3F81-488B-9B7E-6BDF301C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16CF-F5F1-40E2-B922-AC0D159A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374B-24E0-4CA0-BD22-1E6C2E90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FF71-BBBE-48B8-B77D-DB69A14E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60FC-F87D-46A0-996B-86CAE386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2ED0-4C31-4FCF-8BA3-9181C611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80D6-5C17-4A07-BC95-2FB57455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6C12-6301-4578-AB00-B224F809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52E5-9BB4-488D-A300-5DB11BC3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D289-2DD0-4B5B-B67D-266E69D2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52C8-2931-4E68-B843-1AF77035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F19B-EF07-41CB-885E-F8B1FA8C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F853-7D36-463E-B23A-5C5F7827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487E-CF57-49C9-B8F2-01EFD0F5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C7FF-2FB8-46FC-AC05-63446EA8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D45A-ABA2-46AD-96AB-7BE6286B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6EB-92CE-4713-995D-24E29FCC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F23-CF71-464A-BE88-0928E7DF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F41-415A-4966-8596-FC4DAA3A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2D0-9BD9-498E-9076-854D16F5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0A6-F73E-4D71-8BFB-43446E32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453-993D-4BF5-81ED-A5432A32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5855-8891-4DA6-A7E2-866D66222C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B3BC-7D72-4326-8FE4-2D3CCB816F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КОМУНИКАЦИЈА СА ПАЦИЈЕНТИМ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са рођацима који желе да прикрију истин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спитати разлога прикривања ист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бјаснити породици да треба да прихвати пацијентову потребу за објашњењ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во договорити да се разговора са пацијентом да се утврди колико он разуме сопствену ситуаци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бећати да пацијент неће добити ниједну информацију коју не тра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бјаснити да саопштавање реалне ситуације даје више постора за постизање краткорочних циљ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бјаснити да искрен разговор ствара осећај уте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творити могућност заједниког суср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себно причати са онима који су за прикрива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224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Препреке</a:t>
            </a: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 доброј комуникациј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ацијенти понекад не могу да нађу речи којима би изразили своја осећ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ацијенти не желе да буду терет и боје се да ће “пући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ацијенти се стиде да признају да имају проблем са савладавањем сопствене ситу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дравствени радници се боје да ће код пацијената изазвати душевни б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дравствени радници сматрају да емоционална подршка није део њихово посла и не знају како да то ура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моције пацијената могу лично да погађа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Препреке</a:t>
            </a: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 доброј комуникациј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Избегавати понашање које спречава комуникацију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етерани давање савета и утехе, пре него што се идентификују главни пробле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Занемаривање душевног 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Фокусирање искључиво на физичке аспек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омене теме разго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спутно развесељавање пациј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старијим</a:t>
            </a: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 пацијент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овор уз осмех има већи ефек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ледајте особу у лице, директан контакт очима боље држи пажњ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лиминишите напетост код себ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ристите краће и јасне речениц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ставите довољно времена саговорнику да разуме ваш гов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искретно проверавајте пажњу саговор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новите информацију ако је потреб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лагодите јачину свог говора. Говорити гласно није увек најбоље, осим ако саговорник не чуј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удите стрпљив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1224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 пацијентима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са ургентним психијат. стањ.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радити однос са пацијентом заснован на емпатији, искрености и прихватањ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азвијати однос у коме се пацијент може љутити, а да притом не реагује агресиј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мењивати индивидуални приступ пацијен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едвидети могућност агресивног понашања и превентивно деловати на спречавању тог понаш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штовати болесникову потребу за личним простором (склонити ствари које га плаш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оптуживати болесника, да му јача осећај крив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изазивати болес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 занемаривати сопствену безбед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122400"/>
            <a:ext cx="74678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 психотичним болеснико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 комуникацији је битно стрпљење и поштов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дстицати болесника да опширније одговара на питања, да успостави социјални контакт са друг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ратке једноставне реченице уз употребу социјалних подстицаја (шетња, игре, часописи 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ије добро директно противречити болесниковим суманутим идејама, већ је боље открити шта се крије иза њ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ткривањем тога ствара се осећај повер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сме се избегавати комуникација – то болесник може протумачити као поступак против њема и реаговати још агресивн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122400"/>
            <a:ext cx="74678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 депресивним болеснико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дстицати га на комуникацију са другим болесниц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уздржавати сопствену досаду и љутњ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презно посматрати болесника, вербалан и невербалан го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бјаснити сврху разго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ристити изразе подрке и разуме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стављати му питања на које може дати кратке и једноставне одгов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азговор треба да буде отворен и пун разуме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ажљиво испитати суицидне намере, без страха да ће му испитивање погоршати ст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22400"/>
            <a:ext cx="74678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 агресивним болеснико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дравствени радник мора бити смирен и отвор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еба проценити стање болесника: узнемиреност или “експлозиј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казати му жељу за разговором и слушањ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знати му да је љут и узнемир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позорити болесника да насилно понашање није прихватљи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ити на сигурној удаље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прекидати болесником исп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показивати му слагање са оним са чим се не слажем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стојати разуверити и опустити болес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болесником у акутном напитом стањ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стати миран, представити се болеснику и успоставити контакт са оч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треба се према болеснику поставити изазивачки, нити тражити од њега да се сми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 потреби, неупадљиво треба звати помо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азговор треба водити у већој просторији, јер мања просторија може развити осећај “затворености у клопку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еба користити “Да, али ...” конструкцију. На пример: “Да, слажем се са вама, али можда би било добро да 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болесником са неповољном прогнозо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60-тих година </a:t>
            </a:r>
            <a:r>
              <a:rPr b="0" lang="sr-RS" sz="3600" spc="-1" strike="noStrike">
                <a:solidFill>
                  <a:srgbClr val="ff0000"/>
                </a:solidFill>
                <a:latin typeface="Arial"/>
              </a:rPr>
              <a:t>Сисели Саундерс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 је утемељила приступ комуникације са пацијентом који се заснива 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истин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отвореност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;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искреност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Алтернатива је приступ “</a:t>
            </a:r>
            <a:r>
              <a:rPr b="0" lang="sr-RS" sz="3600" spc="-1" strike="noStrike">
                <a:solidFill>
                  <a:srgbClr val="ff0000"/>
                </a:solidFill>
                <a:latin typeface="Arial"/>
              </a:rPr>
              <a:t>затворене свести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–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саопштавање лоших вест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IK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оток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Припрем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пре састанка са пацијентом. Присуство члана породице је добра прак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Перцепциј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tion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– утврдити шта пацијент тренутно зна о својој бол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Добијање сигнал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itation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– Треба добити јасан став да ли пацијент хоће да зна своје стање. Уколико не, опција су рођа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Сазнањ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ајте сигнал упозор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Емпатиј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athy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– прихватите реакцију и покажите емпатију, али без ублажавања реал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Сумирањ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– Резиме и стратегија за даљ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9T04:08:00Z</dcterms:modified>
  <cp:revision>176</cp:revision>
  <dc:subject/>
  <dc:title>Soft and Hard Skills Development: A Current Situation in Serbian Companies</dc:title>
</cp:coreProperties>
</file>